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CAMERA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3C0A6-A15A-4708-9719-1B9A409B15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3946D-DC31-4F30-8966-837E790A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EB1E1-D8CA-4E70-B5FA-58FBD185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1E423-7CFC-436B-A408-2390ADA11A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6E221-1705-47C4-82D3-BEB8F71C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CAA3A-B5EC-44F2-8E98-07E0B1BC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325A5-F970-4D66-83EC-0C9C5A5E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78412-C161-4213-B05F-D8A66F979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B0984-F2AC-40EA-B06D-7189C4F21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7C789-55A5-47C1-9DE2-AE8AFA43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84108-C30F-473A-8B26-4AE3E281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AB5A6-61FD-452B-87F9-EE0A804C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94DE-E751-456E-AC13-F50534BA18D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0920" y="2565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d1496"/>
                </a:solidFill>
                <a:latin typeface="Verdana"/>
                <a:ea typeface="宋体"/>
              </a:rPr>
              <a:t>第六节  周围血管评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99640" y="304560"/>
            <a:ext cx="6767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第六节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周围血管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周围血管评估包括动脉、静脉和毛细血管的评估，是心血管评估的重要组成部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本节主要讲述脉搏、血压、血管杂音和周围血管征的评估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395280" y="1324080"/>
            <a:ext cx="8064360" cy="37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1496"/>
                </a:solidFill>
                <a:latin typeface="Arial"/>
                <a:ea typeface="宋体"/>
              </a:rPr>
              <a:t>一、视诊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一）肝颈静脉回流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见于右心衰竭、心包积液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二）毛细血管搏动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主要见于脉压增大的疾病，如主动脉瓣关闭不全、甲状腺功能亢进、重症贫血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二、触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脉搏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的触诊一般多选择桡动脉。触诊时评估者将示指、中指和环指并拢，用指腹进行触诊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脉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脉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强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四）脉搏波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．水冲脉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water-hammer 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．交替脉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alternating 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．奇脉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paradoxical 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三、听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正常人血管杂音很少闻及，若闻及多有病理意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静脉杂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动脉杂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755640" y="1052640"/>
            <a:ext cx="792000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三）枪击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枪击音（</a:t>
            </a: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pistol shot sound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     </a:t>
            </a: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Duroziez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双重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枪击音、</a:t>
            </a: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Duroziez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双重音、毛细血管搏动征、水冲脉统称为周围血管征。主要见于脉压增大的疾病，如主动脉瓣关闭不全、甲状腺功能亢进和严重贫血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一）血压标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547640" y="1591200"/>
            <a:ext cx="50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成人血压水平的定义和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971640" y="2349360"/>
          <a:ext cx="7561080" cy="3475080"/>
        </p:xfrm>
        <a:graphic>
          <a:graphicData uri="http://schemas.openxmlformats.org/drawingml/2006/table">
            <a:tbl>
              <a:tblPr/>
              <a:tblGrid>
                <a:gridCol w="2674800"/>
                <a:gridCol w="2438280"/>
                <a:gridCol w="2448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类    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收缩压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mmHg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舒张压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mmHg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正常血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&lt;12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&lt;8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正常高值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0~13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0~8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高血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级高血压（轻度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0~15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~9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级高血压（中度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60~17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0~10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级高血压（重度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8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1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单纯收缩期高血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&lt;9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Rectangle 35"/>
          <p:cNvSpPr/>
          <p:nvPr/>
        </p:nvSpPr>
        <p:spPr>
          <a:xfrm>
            <a:off x="0" y="475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二）血压变动的临床意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高血压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hypertension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：血压高于正常标准称为高血压。高血压原因不明称原发性高血压。高血压可为某些疾病的临床表现之一，称继发性高血压或症状性高血压。如肾动脉狭窄、肾实质病变、嗜铬细胞瘤、原发性醛固酮增多症、皮质醇增多症、妊娠中毒症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低血压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hypotension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：指血压低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90/60mmHg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常见于休克、急性心肌梗死、心力衰竭、心脏压塞等，也可见于极度衰弱者及少数正常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脉压增大或减小：脉压大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0mmHg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为脉压增大，多见于主动脉瓣关闭不全、甲状腺功能亢进、动脉导管未闭、严重贫血和主动脉硬化等。脉压小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mmHg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称脉压减小，多见于主动脉瓣狭窄、低血压、心力衰竭、心包积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56:06Z</dcterms:modified>
  <cp:revision>145</cp:revision>
  <dc:subject/>
  <dc:title>内科护理学</dc:title>
</cp:coreProperties>
</file>